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79B7-9360-4A00-8764-DF2C2206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F4C-937B-4E66-80C6-C23232C6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0D1-6822-4291-85A1-12C20A12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647C-B8F7-4838-BAA7-772FC48B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C1E0-43D4-4629-B1A4-034BC552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DA7F-ABFD-422E-9CB8-70E011FC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C4A0-1B64-48D0-881A-F23700D1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6206-FEEB-4260-8874-41867658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77F9-4C02-4DAD-98C2-3F3EB747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A0B-047B-4356-8FDD-A63D336B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398-9E80-4E99-83DE-34E19D6A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F14B-A11F-47E5-82F3-39C20120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976B-997D-4C22-8331-A108FE008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Arial"/>
              </a:rPr>
              <a:t>NOTES IN-TEXT CIT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757920" y="0"/>
            <a:ext cx="2386080" cy="1565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386080" cy="1565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4413240"/>
            <a:ext cx="36576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Question 9: How do we define the personality traits of a hero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A hero has to be willing to sacrifice his life to rescue the other person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uestion 10:what did my hero risk saving peoples l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y hero risked his own life trying to save the people in trouble. And for the people that are trapped in the building that have a  injury or girder on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Question 1.How did you decide to become a firefigh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He was driving home and went by the firehouse and he decided that he wanted to become a fire fighter. (Bail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Question 2.who was your inspi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He inspired himself to become a firefighter nobody in his family was a firefighter. And once he decided to become a firefighter he decided he wanted to do it for the rest of hi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OURCE: (Bail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Question 3. How do you train for falling buildings and forest fi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Firefighters train by going at high speed to set up ladders and the hoses to save people stuck inside the buil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Also you have to take some classes and learn from that knew more or from older firefigh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Source: http://resources.courseadvisor.com/career-training/firefi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Question 4:what are the important steps to becoming a firefigh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1.you have to make sure that you are ready to commit and make a decision to become a volunteer firefigh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2.Once you figure out were you want to be a volunteer you have to call the fire department to see if they have any volunte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Question 5.How are firefighters in New York state get honored as hero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ome firefighters get recognized by getting awards like firefighter of the year and the fire achievement a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uestion 6. How does a firefighter make decis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A firefighters judgment is recognized as the greatest impact or final out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e firefighters have to make their decisions fast or else their hard decision making will come with consequ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Question 7.What are the challenges for training and keeping volunteer firefigh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Most of the departments have the firefighters train 20 to 100 hours a month or even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Some challenges are the firefighters trying to inspect the chimne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uestion 8.Why do people always call for your hel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People always call for a firefighters help because they know that a firefighter will try to do the best they can do to help the person that is in dang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9:22:14Z</dcterms:created>
  <dc:creator>13kaddin</dc:creator>
  <dc:description/>
  <dc:language>en-US</dc:language>
  <cp:lastModifiedBy>13kaddin</cp:lastModifiedBy>
  <dcterms:modified xsi:type="dcterms:W3CDTF">2012-03-20T18:27:40Z</dcterms:modified>
  <cp:revision>10</cp:revision>
  <dc:subject/>
  <dc:title>NOTES IN-TEXT CITATION   </dc:title>
</cp:coreProperties>
</file>